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811-BA4F-43D9-89A0-B44FF93F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409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259880"/>
            <a:ext cx="84409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57B-AF8F-4A80-BF5F-1176422E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C0A-9DEC-4E2E-A080-6EF8C819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4440" y="19792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160" y="19792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2598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4440" y="42598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160" y="42598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865-CADE-4489-BD04-05994D7D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E069-1F30-4449-B0AE-3BD9C4BB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409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39D0-8CDD-438D-A221-0A30D7BD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409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2D87-2FA2-442D-934D-D529128A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84C4-B438-4A08-8A8C-7BF8198A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003D-48F7-4132-8CFB-B523C46E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410760"/>
            <a:ext cx="86216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202E-95A4-4380-83D1-AA160473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17E8-38E7-4DDE-A258-53566CD0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409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55D-03A6-41A8-89AB-2C935E6B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57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EE02-2DB7-48A7-8EA2-E8EB441B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259880"/>
            <a:ext cx="84409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846C-431F-4173-B529-CEDF383A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409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259880"/>
            <a:ext cx="84409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7EF9-E8E4-4467-8F79-DDC02268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57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C1E3-B490-4C90-9DE6-6EC7A407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4440" y="19792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8160" y="19792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2598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4440" y="42598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8160" y="4259880"/>
            <a:ext cx="271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8ED6-753C-45C7-AD2A-84BC1BBA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409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698-8157-400C-B9E8-EA2A9D6A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0BB-AD2A-475F-BB8D-3A3A99DC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765-EF63-47F2-BD01-FEC259D0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410760"/>
            <a:ext cx="86216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B80-01BA-4428-94E0-836DE4AA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B5F-C565-4458-88DA-01188BFB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2598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89A-3680-4E9B-B5A5-5964E604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979280"/>
            <a:ext cx="41191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259880"/>
            <a:ext cx="844092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8A7-1E47-4101-834C-0679E4D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9880"/>
            <a:ext cx="9051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184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29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79AF1-4673-42B6-8342-76F05264BD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410760"/>
            <a:ext cx="8621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409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6080" y="630072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19640" y="6318000"/>
            <a:ext cx="320328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1720" y="6318000"/>
            <a:ext cx="232884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EAED2-29FA-4190-95CE-BB3C3EA399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00360" y="804960"/>
            <a:ext cx="611964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360" y="417240"/>
            <a:ext cx="86295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Материальное положение Вашей семьи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92000" y="1944720"/>
          <a:ext cx="7883640" cy="4541400"/>
        </p:xfrm>
        <a:graphic>
          <a:graphicData uri="http://schemas.openxmlformats.org/drawingml/2006/table">
            <a:tbl>
              <a:tblPr/>
              <a:tblGrid>
                <a:gridCol w="4950000"/>
                <a:gridCol w="2933640"/>
              </a:tblGrid>
              <a:tr h="638280"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енег не хватает даже на 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 питание денег хватает, но одежду,обувь купить не мож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 одежду,обувь денег хватает, но крупную бытовую технику купить не мож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 бытовую технику денег хватает, но автомобиль купить не мож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 автомобиль денег хватает, но квартиру или дом купить не мож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 квартиру или дом денег хват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463680"/>
            <a:ext cx="8629560" cy="11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аше нынешнее состояние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52360" y="1619280"/>
          <a:ext cx="7775640" cy="3974760"/>
        </p:xfrm>
        <a:graphic>
          <a:graphicData uri="http://schemas.openxmlformats.org/drawingml/2006/table">
            <a:tbl>
              <a:tblPr/>
              <a:tblGrid>
                <a:gridCol w="4432320"/>
                <a:gridCol w="3343320"/>
              </a:tblGrid>
              <a:tr h="771840"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711000">
                <a:tc>
                  <a:txBody>
                    <a:bodyPr lIns="90000" rIns="90000" tIns="2786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е идет хорош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974880">
                <a:tc>
                  <a:txBody>
                    <a:bodyPr lIns="90000" rIns="90000" tIns="2786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е все идет хорошо, как хотелось бы, но мне удается преодолевать труд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58520">
                <a:tc>
                  <a:txBody>
                    <a:bodyPr lIns="90000" rIns="90000" tIns="2786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Жить очень трудно, но пока еще можно терп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58520">
                <a:tc>
                  <a:txBody>
                    <a:bodyPr lIns="90000" rIns="90000" tIns="2786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ерпеть такое бедственное положение уже невозмож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9640" y="682560"/>
            <a:ext cx="7380000" cy="5648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СПАСИБО  ЗА ВНИМАНИЕ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720720" y="2303640"/>
          <a:ext cx="8710560" cy="4463640"/>
        </p:xfrm>
        <a:graphic>
          <a:graphicData uri="http://schemas.openxmlformats.org/drawingml/2006/table">
            <a:tbl>
              <a:tblPr/>
              <a:tblGrid>
                <a:gridCol w="1243080"/>
                <a:gridCol w="1244520"/>
                <a:gridCol w="1244520"/>
                <a:gridCol w="1243080"/>
                <a:gridCol w="1244520"/>
                <a:gridCol w="1244880"/>
                <a:gridCol w="1245960"/>
              </a:tblGrid>
              <a:tr h="1639440">
                <a:tc>
                  <a:txBody>
                    <a:bodyPr lIns="90000" rIns="90000" tIns="71604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35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8-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35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5-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35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-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35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5-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35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5-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35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5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1414080"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УЖ.-42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1414080"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ЖЕН.-5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8038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720720" y="425520"/>
            <a:ext cx="86360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 опросе приняло участие 100 респонд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360" y="469440"/>
            <a:ext cx="863604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ровень доверия органам местного самоуправления Муезерского района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20720" y="1979640"/>
          <a:ext cx="8454960" cy="3564000"/>
        </p:xfrm>
        <a:graphic>
          <a:graphicData uri="http://schemas.openxmlformats.org/drawingml/2006/table">
            <a:tbl>
              <a:tblPr/>
              <a:tblGrid>
                <a:gridCol w="2817720"/>
                <a:gridCol w="2818080"/>
                <a:gridCol w="2819160"/>
              </a:tblGrid>
              <a:tr h="1383840"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ля доверяю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ля не доверяю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1093320">
                <a:tc>
                  <a:txBody>
                    <a:bodyPr lIns="90000" rIns="90000" tIns="5256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взвешенное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1405440"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уезерский  рай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184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76360" y="360360"/>
            <a:ext cx="6624720" cy="676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720" y="468000"/>
            <a:ext cx="863424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Концентрация проблемных зон муниципалитетов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468360"/>
            <a:ext cx="863604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асыщенность информационного поля сведениями о деятельности органов местного самоуправления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36720" y="1716120"/>
          <a:ext cx="8136000" cy="5268600"/>
        </p:xfrm>
        <a:graphic>
          <a:graphicData uri="http://schemas.openxmlformats.org/drawingml/2006/table">
            <a:tbl>
              <a:tblPr/>
              <a:tblGrid>
                <a:gridCol w="3529080"/>
                <a:gridCol w="2095200"/>
                <a:gridCol w="2511720"/>
              </a:tblGrid>
              <a:tr h="924120">
                <a:tc>
                  <a:txBody>
                    <a:bodyPr lIns="90000" rIns="90000" tIns="60264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нформации достато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нформации не достато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уезер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ондопож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оух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Лахденпох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двежьегор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лонец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иткярант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ионеж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яжин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удож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егеж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ортаваль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20000"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уоярвский 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140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360" y="415800"/>
            <a:ext cx="86281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Получение информации о происходящем  событии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36720" y="2023920"/>
          <a:ext cx="8315280" cy="3806640"/>
        </p:xfrm>
        <a:graphic>
          <a:graphicData uri="http://schemas.openxmlformats.org/drawingml/2006/table">
            <a:tbl>
              <a:tblPr/>
              <a:tblGrid>
                <a:gridCol w="4827600"/>
                <a:gridCol w="3487680"/>
              </a:tblGrid>
              <a:tr h="561240">
                <a:tc>
                  <a:txBody>
                    <a:bodyPr lIns="90000" rIns="90000" tIns="2397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52308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азе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2308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ади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52308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елевид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2308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нтерн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7760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т друзей, родственников,знаком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2308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руг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92000" y="936720"/>
          <a:ext cx="8207640" cy="5037120"/>
        </p:xfrm>
        <a:graphic>
          <a:graphicData uri="http://schemas.openxmlformats.org/drawingml/2006/table">
            <a:tbl>
              <a:tblPr/>
              <a:tblGrid>
                <a:gridCol w="3262320"/>
                <a:gridCol w="2384640"/>
                <a:gridCol w="2560680"/>
              </a:tblGrid>
              <a:tr h="8712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оциальные отрас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ля удовлетворенных качеством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е удовлетворе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м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8197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ультура и организация дос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8193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школьно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8193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Школьно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890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полнительно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8172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дравоохра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863640" y="576360"/>
          <a:ext cx="8207280" cy="5846760"/>
        </p:xfrm>
        <a:graphic>
          <a:graphicData uri="http://schemas.openxmlformats.org/drawingml/2006/table">
            <a:tbl>
              <a:tblPr/>
              <a:tblGrid>
                <a:gridCol w="3213000"/>
                <a:gridCol w="2741760"/>
                <a:gridCol w="2252520"/>
              </a:tblGrid>
              <a:tr h="6807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оставляющие инфра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тветы «удовлетворены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тветы «не удовлетворен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6807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Электроснаб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807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еплоснаб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890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одоснаб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(водоотвед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807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азоснаб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682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автомобильных до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807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анспортное обслуж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8701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еспечение общественного порядка и безопас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008000" y="703440"/>
          <a:ext cx="8237520" cy="5606640"/>
        </p:xfrm>
        <a:graphic>
          <a:graphicData uri="http://schemas.openxmlformats.org/drawingml/2006/table">
            <a:tbl>
              <a:tblPr/>
              <a:tblGrid>
                <a:gridCol w="4494240"/>
                <a:gridCol w="3743280"/>
              </a:tblGrid>
              <a:tr h="834840">
                <a:tc>
                  <a:txBody>
                    <a:bodyPr lIns="90000" rIns="90000" tIns="40284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79488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статься жить в том же населенном пункте, где сей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94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ереехать в район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9596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ереехать в г.Петрозавод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94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ереехать в другой район республики (кроме Петрозаводс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79488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ереехать в другой регион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79704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ереехать в другую стра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/>
  <cp:lastPrinted>2018-10-23T04:27:29Z</cp:lastPrinted>
  <dcterms:modified xsi:type="dcterms:W3CDTF">2017-07-28T08:36:56Z</dcterms:modified>
  <cp:revision>52</cp:revision>
  <dc:subject/>
  <dc:title/>
</cp:coreProperties>
</file>